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68D-3988-4963-80C4-06768175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2C92-F784-412C-90C7-DCAEA86D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740-ABF7-4995-9C6B-B498F7FF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A66-5750-4C7A-944F-CF4EB3B4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554C-F687-44BF-9E86-30F25ABA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6FA4-A768-4531-9798-34B07FBB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5038-306F-414C-B18F-4DEEFBB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36A8-6E60-449A-904A-C5F142E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B56B-CB70-4E80-A937-CAE93928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96CF-ECCB-4A18-9EED-CBA65AF6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11EA-B799-41D7-95A1-C5D76F0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DF4-177C-46A0-8E91-9579E3C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9CA-D62D-46FC-A1AD-AF9EDC31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020-1A5D-4B73-96B8-F32F473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DD0A-B326-4CF1-AE6F-2BBAD9D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5BF3-8F5E-4381-976F-1E06FCA3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F75B-4ACB-48BE-8B49-3C1C7703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9DD-70BA-4311-AB38-C6D4AEF2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CF4-D1D9-4F8B-891A-98DE7B10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FA3-3467-403B-8AE7-A501C62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9EC-DAB7-4868-8B04-3CB602C0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BCD-493D-4692-A2C0-46920B8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B6B-6DD2-4323-A4B3-3954DFBF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E39-73C8-4B9E-88ED-597A701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6EB9-A1B6-4CF9-83B7-AED773869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d9ea5"/>
                </a:gs>
                <a:gs pos="100000">
                  <a:srgbClr val="c1c2c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8d0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BA1-3253-4A76-B3AD-85528A5DA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63640" y="476280"/>
            <a:ext cx="214164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Y tri olaf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th yw’r tair llythyren ola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292428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40360" y="3141720"/>
            <a:ext cx="3240000" cy="2571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18064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8-12-31T18:26:34Z</dcterms:modified>
  <cp:revision>1</cp:revision>
  <dc:subject/>
  <dc:title>Y tri olaf</dc:title>
</cp:coreProperties>
</file>